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27A-2CF1-4EE0-883F-0D1D7FC3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40A-CAE7-4609-8242-AE6D1D53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53D-EC1B-48D9-8CA6-B0F15595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1F9-FABD-4FCB-BA8F-879D9BAB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21E-A46C-4CAF-B765-1A79370E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3C5-0B88-466D-A966-90652BC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0BE-578A-4135-A185-9EEAD5F9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0B1-489C-431A-9CC9-35ECE6F0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3B3-3AC3-4121-8CA5-04AA1401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759-6A4B-48BA-B556-056CEA9F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96F-C322-4EA5-9D02-5D709395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851-6380-47D7-8277-45EEA59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E9D-9FCE-4922-A697-106C2253FD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7280" y="1447920"/>
            <a:ext cx="547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t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y Desig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762120"/>
            <a:ext cx="2514600" cy="444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276720"/>
            <a:ext cx="41911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4952880"/>
            <a:ext cx="716292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16292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43000" y="2666880"/>
            <a:ext cx="71629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029200"/>
            <a:ext cx="8380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077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4380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0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5438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543800" cy="695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467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20400" y="19051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Epi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2924280"/>
            <a:ext cx="76201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7543800" cy="94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543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1905120" cy="99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06600" y="1512720"/>
            <a:ext cx="21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 issu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5638680"/>
            <a:ext cx="2438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761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7:39Z</dcterms:modified>
  <cp:revision>213</cp:revision>
  <dc:subject/>
  <dc:title>Slide 1</dc:title>
</cp:coreProperties>
</file>